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42D-03D4-44FB-AB33-77FAC308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457-6DC2-4A45-AC5B-109B5394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B65-EA09-470D-B8DB-77241963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D00-475D-4028-9FAB-04359AC4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7676-2248-4B35-828F-ABAD8303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1B11-C73A-478C-8C52-B7D67F67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C11E-75FD-484A-9D8C-63CD0E0B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C236-4DAE-4C0F-8751-0B4FCF6D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18EA-B4AC-4150-BCE3-D4C2FFE3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1F0B-BE0E-4541-9A5B-B9AEA407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A285-20B6-484F-82BD-DBDCB60C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92D-3941-4046-985A-F058E57E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39F6-BD2D-4D95-BFDE-557521E9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BD0B-4F69-4033-9FAC-31235E26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2874-3063-4615-82DC-9F984C9A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02C1-3889-4192-92B8-76D3C8FA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3F0F-FCC7-43FE-986C-DC1EA3C8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7A5-FB3D-43E1-85F4-EA1B5CD2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A33-584E-452A-848F-EF7013B7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DB2-420B-4C92-AACE-FD7255CE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3AD-297C-4F5A-A288-14B434BF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51F-8CE4-43B2-B362-72F29F08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1DF-6825-4C35-A43A-E392BDE2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D97-DF25-497B-9DBA-E6F069AB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59FB-7182-491B-BF1A-C4EA4510A50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2D1C-4F16-4154-BD4D-4A5F37D20AD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438280" y="522360"/>
            <a:ext cx="45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e14"/>
                </a:solidFill>
                <a:latin typeface="Arial"/>
              </a:rPr>
              <a:t>Personal</a:t>
            </a:r>
            <a:r>
              <a:rPr b="1" lang="en-US" sz="3200" spc="-1" strike="noStrike">
                <a:solidFill>
                  <a:srgbClr val="54547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e0e14"/>
                </a:solidFill>
                <a:latin typeface="Arial"/>
              </a:rPr>
              <a:t>Bio-Po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205740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1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First Na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2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Four words that tell about yo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3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Son or Daughter of _________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4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Loves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name 3 people or thing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5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Who feels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3 feeling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6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Who needs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3 item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7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Who gives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3 item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8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Who fears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3 item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9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Who would like to see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3 people or event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10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Resident of Forest City, N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11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ast na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2240" y="121932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rections:  Follow the list below.  If a word is written in bolded print, you wil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eed to write it on your paper.  The other words give you specific direction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2:51:15Z</dcterms:created>
  <dc:creator>Rutherford County Schools</dc:creator>
  <dc:description/>
  <dc:language>en-US</dc:language>
  <cp:lastModifiedBy>Rutherford County Schools</cp:lastModifiedBy>
  <dcterms:modified xsi:type="dcterms:W3CDTF">2006-11-02T03:04:52Z</dcterms:modified>
  <cp:revision>2</cp:revision>
  <dc:subject/>
  <dc:title>Slide 1</dc:title>
</cp:coreProperties>
</file>